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679-597E-4FE5-9CF7-64546D40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6CA-F55E-41D3-8D3A-480AB90C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427-E0C3-40D2-8806-5220DE42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85F-7CDE-4C58-9774-EC86C9A8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501-137A-4FFC-86DA-06D48EBA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4BA-7284-4220-B9E0-5952229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2E8-5055-446F-A299-63F2636F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F91-0E06-4638-88EE-0D170516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E4E-730C-483F-AA4E-35580BC9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DD3-8EF5-47B2-84D3-819AF8B4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683-DD73-461C-8DC4-5C7B1C9B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CF3-09D9-4518-83F4-7193F140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8556-A680-40B0-BDC2-2BB5F897B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1560" y="45720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olog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2819520"/>
            <a:ext cx="2241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bed-fin fish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 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 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ct 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7920" y="2971800"/>
            <a:ext cx="257400" cy="982800"/>
          </a:xfrm>
          <a:custGeom>
            <a:avLst/>
            <a:gdLst>
              <a:gd name="textAreaLeft" fmla="*/ 164520 w 257400"/>
              <a:gd name="textAreaRight" fmla="*/ 257760 w 257400"/>
              <a:gd name="textAreaTop" fmla="*/ 25560 h 982800"/>
              <a:gd name="textAreaBottom" fmla="*/ 957240 h 9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57200" y="3203640"/>
            <a:ext cx="17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lim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09896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homologous as forelimbs or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828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finition: Structures (including genes) are homologous if they evolved from some structure in a common anc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638680"/>
            <a:ext cx="78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s are functionally classified, and are analagous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489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homologous as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09360" y="3641760"/>
            <a:ext cx="428760" cy="372960"/>
          </a:xfrm>
          <a:custGeom>
            <a:avLst/>
            <a:gdLst>
              <a:gd name="textAreaLeft" fmla="*/ 273960 w 428760"/>
              <a:gd name="textAreaRight" fmla="*/ 429120 w 428760"/>
              <a:gd name="textAreaTop" fmla="*/ 9720 h 372960"/>
              <a:gd name="textAreaBottom" fmla="*/ 363240 h 3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structures are homologo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181480" y="3236760"/>
            <a:ext cx="2210040" cy="1868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5228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we care about homology when building an anatomy ont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32440" y="990720"/>
            <a:ext cx="613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ider an anatomy ontology of verteb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nial 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etal bone (in_organism 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etal bone (in_organism zebrafis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al bone (in_organism 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al bone (in_organism zebraf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527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logous : frontal bone (zebrafish) and parietal bone (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9880" y="34210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69396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342108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7000" y="3693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5791320"/>
            <a:ext cx="74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t genes and developmental processes may underlie the development of the zebrafish frontal and the human frontal, even though they have the same name and are similarly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0" y="3268800"/>
            <a:ext cx="609480" cy="533160"/>
            <a:chOff x="4572000" y="3268800"/>
            <a:chExt cx="609480" cy="533160"/>
          </a:xfrm>
        </p:grpSpPr>
        <p:sp>
          <p:nvSpPr>
            <p:cNvPr id="62" name=""/>
            <p:cNvSpPr/>
            <p:nvPr/>
          </p:nvSpPr>
          <p:spPr>
            <a:xfrm>
              <a:off x="4572000" y="3268800"/>
              <a:ext cx="609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647960" y="3377880"/>
              <a:ext cx="456840" cy="30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6480" y="3657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nd where should homology information be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181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logy between genes is already determined and recorded by the model organism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44640" y="79848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ase: Query for phenotypes affecting the human frontal bone and its homologous structure in other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83880" y="2722680"/>
            <a:ext cx="3574800" cy="581400"/>
            <a:chOff x="2783880" y="2722680"/>
            <a:chExt cx="3574800" cy="581400"/>
          </a:xfrm>
        </p:grpSpPr>
        <p:sp>
          <p:nvSpPr>
            <p:cNvPr id="68" name=""/>
            <p:cNvSpPr/>
            <p:nvPr/>
          </p:nvSpPr>
          <p:spPr>
            <a:xfrm>
              <a:off x="2783880" y="2722680"/>
              <a:ext cx="357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molog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ynony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430520" y="2882880"/>
              <a:ext cx="212760" cy="30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357720" y="5335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 hom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3680" y="1371600"/>
            <a:ext cx="837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gene hom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that diverged due to a speciation event are term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th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that diverged due to a duplication within a species are term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962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orthology is recorded using different types of evid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2160" y="5867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5383" t="35418" r="1537" b="39584"/>
          <a:stretch/>
        </p:blipFill>
        <p:spPr>
          <a:xfrm>
            <a:off x="4114800" y="5029200"/>
            <a:ext cx="4114800" cy="132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1400" y="55227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rved l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34440" y="652140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m et al.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8160" y="525312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4840" y="60469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X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6240" y="3613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homology assignment is associated with reference to a physical piece of evidence, a person, or litera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3680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y assignments are based on specific kinds of ev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P: Inferred from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D: Inferred from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C: Inferred from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040" y="4680000"/>
            <a:ext cx="74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logy statements include evidence and citations, and different homology statements are used to create and refine phylogen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65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logy between anatomical structures is already determined and but not yet captured in a database the evolutionary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14400" y="728640"/>
          <a:ext cx="716292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28640"/>
                    <a:ext cx="716292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24520" y="380880"/>
            <a:ext cx="83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ous structures are already implicit within MODs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295280"/>
            <a:ext cx="7543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we need a relationship in OBO-REL to define homology? This is a symmetric relation between sisters and it is the relationship that requires evidence and at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homology assignments be a top-down or bottom up approach?eg. Pairs of taxa vs. CARO-centric assignments?  RE:domain experts are required.  It might be easier to enlist help in a pairwise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y needs to be captured for similarity searches.  Text or synonym searches are insufficient.  Does CARO take into account homology or is it a separate data s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wo structures are deemed homologous, how does this information transfer down is_a chains? Need use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3480" y="45720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14584" r="30002" b="625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8:54:42Z</dcterms:created>
  <dc:creator>Melissa Haendel</dc:creator>
  <dc:description/>
  <dc:language>en-US</dc:language>
  <cp:lastModifiedBy>zfin user</cp:lastModifiedBy>
  <dcterms:modified xsi:type="dcterms:W3CDTF">2006-09-09T17:19:27Z</dcterms:modified>
  <cp:revision>20</cp:revision>
  <dc:subject/>
  <dc:title>Slide 1</dc:title>
</cp:coreProperties>
</file>